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CE3E-A5FF-4940-A3CB-701C332C5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E6F1-AEBE-415C-91A6-C78CB53B6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CEF0-35BB-44DB-B05C-E3424DB33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3535-5544-46BD-9CF6-15AB938C8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FADF-C7C2-470D-B7AA-319857883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BFC7-8DD4-4085-B819-1DCB70CB6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D9BD-EB36-4E72-94C0-1B9AADDED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D0EF-4766-4DC8-A305-F93EDB0B8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A7B5-F749-4C10-84C9-735FBC799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485B-22FE-43C4-84F5-24057A70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DC92-9C52-4D5C-88B8-4F3CFC11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D33C-DFFF-410E-850B-F3E57B8B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40226-2178-4848-B7B6-CE2D627E78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 rot="20603400">
            <a:off x="3741120" y="114768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9646"/>
                </a:solidFill>
                <a:latin typeface="Calibri"/>
              </a:rPr>
              <a:t>The sadnes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9"/>
          <p:cNvSpPr/>
          <p:nvPr/>
        </p:nvSpPr>
        <p:spPr>
          <a:xfrm>
            <a:off x="2870280" y="243828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10"/>
          <p:cNvSpPr/>
          <p:nvPr/>
        </p:nvSpPr>
        <p:spPr>
          <a:xfrm rot="2868000">
            <a:off x="2999160" y="354384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f81bd"/>
                </a:solidFill>
                <a:latin typeface="Calibri"/>
              </a:rPr>
              <a:t>wh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traight Connector 8"/>
          <p:cNvSpPr/>
          <p:nvPr/>
        </p:nvSpPr>
        <p:spPr>
          <a:xfrm>
            <a:off x="2666880" y="3124080"/>
            <a:ext cx="1131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traight Connector 13"/>
          <p:cNvSpPr/>
          <p:nvPr/>
        </p:nvSpPr>
        <p:spPr>
          <a:xfrm>
            <a:off x="3951360" y="4419720"/>
            <a:ext cx="113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14"/>
          <p:cNvSpPr/>
          <p:nvPr/>
        </p:nvSpPr>
        <p:spPr>
          <a:xfrm>
            <a:off x="7543800" y="3505320"/>
            <a:ext cx="1131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Straight Connector 15"/>
          <p:cNvSpPr/>
          <p:nvPr/>
        </p:nvSpPr>
        <p:spPr>
          <a:xfrm flipV="1">
            <a:off x="7229520" y="2180880"/>
            <a:ext cx="1360440" cy="2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Straight Connector 17"/>
          <p:cNvSpPr/>
          <p:nvPr/>
        </p:nvSpPr>
        <p:spPr>
          <a:xfrm flipV="1">
            <a:off x="6172200" y="2219040"/>
            <a:ext cx="826920" cy="59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traight Connector 19"/>
          <p:cNvSpPr/>
          <p:nvPr/>
        </p:nvSpPr>
        <p:spPr>
          <a:xfrm>
            <a:off x="6815160" y="4386240"/>
            <a:ext cx="830160" cy="795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22"/>
          <p:cNvSpPr/>
          <p:nvPr/>
        </p:nvSpPr>
        <p:spPr>
          <a:xfrm rot="771000">
            <a:off x="3961440" y="2585880"/>
            <a:ext cx="114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alibri"/>
              </a:rPr>
              <a:t>the majority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traight Connector 23"/>
          <p:cNvSpPr/>
          <p:nvPr/>
        </p:nvSpPr>
        <p:spPr>
          <a:xfrm>
            <a:off x="3817800" y="2867040"/>
            <a:ext cx="1132200" cy="206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5"/>
          <p:cNvSpPr/>
          <p:nvPr/>
        </p:nvSpPr>
        <p:spPr>
          <a:xfrm>
            <a:off x="5321160" y="2876400"/>
            <a:ext cx="88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79646"/>
                </a:solidFill>
                <a:latin typeface="Calibri"/>
              </a:rPr>
              <a:t>The part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6"/>
          <p:cNvSpPr/>
          <p:nvPr/>
        </p:nvSpPr>
        <p:spPr>
          <a:xfrm>
            <a:off x="7370640" y="2844720"/>
            <a:ext cx="138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Calibri"/>
              </a:rPr>
              <a:t>The happines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7"/>
          <p:cNvSpPr/>
          <p:nvPr/>
        </p:nvSpPr>
        <p:spPr>
          <a:xfrm rot="2240400">
            <a:off x="2595960" y="2438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Calibri"/>
              </a:rPr>
              <a:t>The li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traight Connector 30"/>
          <p:cNvSpPr/>
          <p:nvPr/>
        </p:nvSpPr>
        <p:spPr>
          <a:xfrm>
            <a:off x="6386400" y="3324240"/>
            <a:ext cx="844560" cy="56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32"/>
          <p:cNvSpPr/>
          <p:nvPr/>
        </p:nvSpPr>
        <p:spPr>
          <a:xfrm rot="1984200">
            <a:off x="6177960" y="798480"/>
            <a:ext cx="135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64a2"/>
                </a:solidFill>
                <a:latin typeface="Calibri"/>
              </a:rPr>
              <a:t>The ballo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33"/>
          <p:cNvSpPr/>
          <p:nvPr/>
        </p:nvSpPr>
        <p:spPr>
          <a:xfrm>
            <a:off x="4898880" y="390600"/>
            <a:ext cx="1273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The cand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34"/>
          <p:cNvSpPr/>
          <p:nvPr/>
        </p:nvSpPr>
        <p:spPr>
          <a:xfrm rot="849000">
            <a:off x="6134040" y="2643120"/>
            <a:ext cx="15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9646"/>
                </a:solidFill>
                <a:latin typeface="Calibri"/>
              </a:rPr>
              <a:t>The wedd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5041800" y="4649760"/>
            <a:ext cx="150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8ed5"/>
                </a:solidFill>
                <a:latin typeface="Calibri"/>
              </a:rPr>
              <a:t>dai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34"/>
          <p:cNvSpPr/>
          <p:nvPr/>
        </p:nvSpPr>
        <p:spPr>
          <a:xfrm rot="4419000">
            <a:off x="4505400" y="3656520"/>
            <a:ext cx="153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Calibri"/>
              </a:rPr>
              <a:t>1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5-Point Star 1"/>
          <p:cNvSpPr/>
          <p:nvPr/>
        </p:nvSpPr>
        <p:spPr>
          <a:xfrm>
            <a:off x="5691240" y="3414600"/>
            <a:ext cx="571320" cy="441360"/>
          </a:xfrm>
          <a:custGeom>
            <a:avLst/>
            <a:gdLst/>
            <a:ahLst/>
            <a:rect l="l" t="t" r="r" b="b"/>
            <a:pathLst>
              <a:path w="571500" h="441325">
                <a:moveTo>
                  <a:pt x="1" y="168571"/>
                </a:moveTo>
                <a:lnTo>
                  <a:pt x="218295" y="168572"/>
                </a:lnTo>
                <a:lnTo>
                  <a:pt x="285750" y="0"/>
                </a:lnTo>
                <a:lnTo>
                  <a:pt x="353205" y="168572"/>
                </a:lnTo>
                <a:lnTo>
                  <a:pt x="571499" y="168571"/>
                </a:lnTo>
                <a:lnTo>
                  <a:pt x="394895" y="272753"/>
                </a:lnTo>
                <a:lnTo>
                  <a:pt x="462353" y="441324"/>
                </a:lnTo>
                <a:lnTo>
                  <a:pt x="285750" y="337140"/>
                </a:lnTo>
                <a:lnTo>
                  <a:pt x="109147" y="441324"/>
                </a:lnTo>
                <a:lnTo>
                  <a:pt x="176605" y="272753"/>
                </a:lnTo>
                <a:lnTo>
                  <a:pt x="1" y="168571"/>
                </a:lnTo>
                <a:close/>
              </a:path>
            </a:pathLst>
          </a:custGeom>
          <a:solidFill>
            <a:srgbClr val="9bbb59"/>
          </a:solidFill>
          <a:ln w="25560">
            <a:solidFill>
              <a:srgbClr val="7189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25"/>
          <p:cNvSpPr/>
          <p:nvPr/>
        </p:nvSpPr>
        <p:spPr>
          <a:xfrm rot="1287600">
            <a:off x="6380640" y="3244680"/>
            <a:ext cx="106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64a2"/>
                </a:solidFill>
                <a:latin typeface="Calibri"/>
              </a:rPr>
              <a:t>marvelou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25"/>
          <p:cNvSpPr/>
          <p:nvPr/>
        </p:nvSpPr>
        <p:spPr>
          <a:xfrm rot="771000">
            <a:off x="6258240" y="3814560"/>
            <a:ext cx="105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alibri"/>
              </a:rPr>
              <a:t>decorat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25"/>
          <p:cNvSpPr/>
          <p:nvPr/>
        </p:nvSpPr>
        <p:spPr>
          <a:xfrm rot="19648200">
            <a:off x="5726880" y="2209680"/>
            <a:ext cx="12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Calibri"/>
              </a:rPr>
              <a:t>The ki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26"/>
          <p:cNvSpPr/>
          <p:nvPr/>
        </p:nvSpPr>
        <p:spPr>
          <a:xfrm rot="21190200">
            <a:off x="5027040" y="199404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</a:rPr>
              <a:t>finall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27"/>
          <p:cNvSpPr/>
          <p:nvPr/>
        </p:nvSpPr>
        <p:spPr>
          <a:xfrm rot="21190200">
            <a:off x="4321800" y="4630680"/>
            <a:ext cx="68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b050"/>
                </a:solidFill>
                <a:latin typeface="Calibri"/>
              </a:rPr>
              <a:t>almo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28"/>
          <p:cNvSpPr/>
          <p:nvPr/>
        </p:nvSpPr>
        <p:spPr>
          <a:xfrm>
            <a:off x="7219800" y="2228760"/>
            <a:ext cx="161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8ed5"/>
                </a:solidFill>
                <a:latin typeface="Calibri"/>
              </a:rPr>
              <a:t>Next/follow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29"/>
          <p:cNvSpPr/>
          <p:nvPr/>
        </p:nvSpPr>
        <p:spPr>
          <a:xfrm rot="1135800">
            <a:off x="3734280" y="3154320"/>
            <a:ext cx="129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64a2"/>
                </a:solidFill>
                <a:latin typeface="Calibri"/>
              </a:rPr>
              <a:t>everyon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31"/>
          <p:cNvSpPr/>
          <p:nvPr/>
        </p:nvSpPr>
        <p:spPr>
          <a:xfrm rot="20742600">
            <a:off x="5892840" y="406404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Calibri"/>
              </a:rPr>
              <a:t>5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26"/>
          <p:cNvSpPr/>
          <p:nvPr/>
        </p:nvSpPr>
        <p:spPr>
          <a:xfrm>
            <a:off x="6811200" y="1501920"/>
            <a:ext cx="208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Calibri"/>
              </a:rPr>
              <a:t>And so it was th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26"/>
          <p:cNvSpPr/>
          <p:nvPr/>
        </p:nvSpPr>
        <p:spPr>
          <a:xfrm>
            <a:off x="3835080" y="3913200"/>
            <a:ext cx="118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Calibri"/>
              </a:rPr>
              <a:t>To begin w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26"/>
          <p:cNvSpPr/>
          <p:nvPr/>
        </p:nvSpPr>
        <p:spPr>
          <a:xfrm rot="1067400">
            <a:off x="7538040" y="3570120"/>
            <a:ext cx="116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79646"/>
                </a:solidFill>
                <a:latin typeface="Calibri"/>
              </a:rPr>
              <a:t>Although/even thoug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26"/>
          <p:cNvSpPr/>
          <p:nvPr/>
        </p:nvSpPr>
        <p:spPr>
          <a:xfrm rot="1067400">
            <a:off x="6851520" y="4325760"/>
            <a:ext cx="1453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64a2"/>
                </a:solidFill>
                <a:latin typeface="Calibri"/>
              </a:rPr>
              <a:t>The rest of th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64a2"/>
                </a:solidFill>
                <a:latin typeface="Calibri"/>
              </a:rPr>
              <a:t>peop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26"/>
          <p:cNvSpPr/>
          <p:nvPr/>
        </p:nvSpPr>
        <p:spPr>
          <a:xfrm rot="2699400">
            <a:off x="6306120" y="4681800"/>
            <a:ext cx="121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Calibri"/>
              </a:rPr>
              <a:t>To get alo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Calibri"/>
              </a:rPr>
              <a:t>wel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Rectangle 2" descr=""/>
          <p:cNvPicPr/>
          <p:nvPr/>
        </p:nvPicPr>
        <p:blipFill>
          <a:blip r:embed="rId2"/>
          <a:stretch/>
        </p:blipFill>
        <p:spPr>
          <a:xfrm>
            <a:off x="36360" y="5162400"/>
            <a:ext cx="3760920" cy="12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0T20:40:20Z</dcterms:created>
  <dc:creator>Heffernen, Heather</dc:creator>
  <dc:description/>
  <dc:language>en-US</dc:language>
  <cp:lastModifiedBy>Stephanie Prine</cp:lastModifiedBy>
  <dcterms:modified xsi:type="dcterms:W3CDTF">2013-05-22T19:23:31Z</dcterms:modified>
  <cp:revision>22</cp:revision>
  <dc:subject/>
  <dc:title>PowerPoint Presentation</dc:title>
</cp:coreProperties>
</file>